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7CB6-6808-4D07-BF13-29985E8F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A562-034B-435F-9EC0-6FF536D1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3541-BE57-4A15-B495-9C54B794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EBDD-E999-4F84-BEAC-A6D634DA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1E32E-7A58-45AC-B446-4C4DDAC07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5F7F-A100-4A53-8CB3-9D6BC2CA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B23D-59E3-4C1B-B129-D7E7F600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FB03-A9C0-4EAA-AC2F-11F90C6A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7192-887F-4454-8230-9C78AAC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99E3-C7B1-4ACE-8884-6A03AAA8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393C-EB7F-4F1F-B4EE-C8A4704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9EC-712B-4CC8-B054-D2517BFD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9D99-6204-41AE-8CBF-2A4CCDED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6A65-9BDB-4570-9A0C-C1D9DBA5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07EC-65F1-4548-B9F7-3B61CE9F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11C6-4491-4584-B1EC-EFF7921F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7108-1C3B-4DDC-9BBF-EEBB49F7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B55-D244-4A91-8D36-3CA5C656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8D27-E8F8-47D9-ACAF-A045E51A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382-30F1-4181-8B14-1A89DBAB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A97-0279-40CD-B368-20C7C165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3AB-071F-4F36-96A5-ED3A79D4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60A-ACD2-4314-BD27-3CAC4217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F19A-F106-4D32-918C-F1EAB4EC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C17D-5B17-4D54-80DB-46F9653B88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AA10-D846-477E-AA0D-CC54CE37E078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3"/>
          <p:cNvSpPr/>
          <p:nvPr/>
        </p:nvSpPr>
        <p:spPr>
          <a:xfrm>
            <a:off x="4714920" y="333360"/>
            <a:ext cx="3722760" cy="152388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nmia tempus habe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ве има своје време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35712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 и фармација раног и развијеног средњег 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зантијс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рапс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настирс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лернска шк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коластич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потеке 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кони цар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ридриха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(124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De materia med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Clavis sanation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Compendium aromat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alibri"/>
              </a:rPr>
              <a:t>Lumen apothecarior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1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 и фармација у средњовековној Србиј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666520"/>
            <a:ext cx="40384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рск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нон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покриф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тнофармаци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ти Кузман и Дамњ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пик манастира Хиланда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иландарски медицински коде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ипик манастира Студениц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рмчија Светог Сав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кони Цара Стефана Душ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9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 и фармација у време јачања грађанског друш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лериус Корд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кола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нард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олус Клузиј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офрастус Парацелз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мас Саденхај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46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дицина и фармација у грађанском друшт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воаз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ртир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летије и Кава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р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с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нчи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4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д алхемије до генске 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енска терапија герминативних ће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енска терапија соматских ћел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еини рекомбиновани генетичким инжењеринг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отехнолог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штински сличан – биолошки слич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5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Solis medicis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4400" spc="-1" strike="noStrike">
                <a:solidFill>
                  <a:srgbClr val="000000"/>
                </a:solidFill>
                <a:latin typeface="Calibri"/>
              </a:rPr>
              <a:t>concessum est mendacium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уге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osef Mengele’s Twin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achau Studies – 1942-194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uremberg Code – 19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Declaration of Helsin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uskegee Syphilis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Belmont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5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ilustracija1"/>
          <p:cNvPicPr/>
          <p:nvPr/>
        </p:nvPicPr>
        <p:blipFill>
          <a:blip r:embed="rId1"/>
          <a:stretch/>
        </p:blipFill>
        <p:spPr>
          <a:xfrm>
            <a:off x="4699080" y="0"/>
            <a:ext cx="444492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ilustracija17"/>
          <p:cNvPicPr/>
          <p:nvPr/>
        </p:nvPicPr>
        <p:blipFill>
          <a:blip r:embed="rId2"/>
          <a:stretch/>
        </p:blipFill>
        <p:spPr>
          <a:xfrm>
            <a:off x="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чеци медицине и фарм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пириј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монистич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имистич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лигиозн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улети и тетовир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зноверј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8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чка медицина и фарма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вилон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египат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јевреј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персиј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индиј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рокинеска медицина и фар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38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ароамеричка медицина и 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а и фармација Аст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а и фармација И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а и фармација Ма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8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арогрчка медицина и фармација пре Хипок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клеп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ahaon, Podalir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мпедо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ог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2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пократска медиц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Corpus Hippocratic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Ars longa vita brevis</a:t>
            </a: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Succusio Hippocra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igiti Hippocrat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Facies Hippocrat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09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рчка медицина и фармација после Хипокра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сал, Драк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и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изи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ок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офра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ни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те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276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Римска медицина и фарма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а и фармација Етрушч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ea Salus, Carn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олон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Apollo salutaris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, Мар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нерва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inerva medica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ea Febris, Mefit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скулап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Aesculapi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укреције Кар (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De natura rerum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33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е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едицинска филозофија и е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ентари античким медицинским дел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томија и физиоло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ука о пулс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ијете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толо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арм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пшта медиц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69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leksandar Kocovic</cp:lastModifiedBy>
  <dcterms:modified xsi:type="dcterms:W3CDTF">2020-09-28T10:59:12Z</dcterms:modified>
  <cp:revision>74</cp:revision>
  <dc:subject/>
  <dc:title>Slide 1</dc:title>
</cp:coreProperties>
</file>